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多态：多种状态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Fraction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lex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类都包含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add: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print: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方法。所以，当执行以下表达式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Result = [c1 add: c2]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[compResult print]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系统如何知道执行哪个方法呢？其实很简单：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Objective-C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运行时知道第一条消息的接受者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1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是一个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lex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对象。因此，选择定义在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lex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类中定义的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add: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方法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运行时，系统还确定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Result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是一个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lex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的对象。因此，它选择定义在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Complex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类中的</a:t>
            </a:r>
            <a:r>
              <a:rPr b="0" lang="en-US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print</a:t>
            </a:r>
            <a:r>
              <a:rPr b="0" lang="zh-CN" sz="1400" spc="-1" strike="noStrike">
                <a:solidFill>
                  <a:srgbClr val="000000"/>
                </a:solidFill>
                <a:latin typeface="Chalkboard"/>
                <a:ea typeface="Heiti SC Light"/>
              </a:rPr>
              <a:t>方法来显示加法的结果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五章：多态、动态类型和动态绑定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4529880"/>
            <a:ext cx="94424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 action = @selector (draw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d graphicObject = myFraction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([graphicObjectrespondsToSelector:action] == YE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graphicObjectperformSelector:action]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/error handling code he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"/>
          <p:cNvSpPr/>
          <p:nvPr/>
        </p:nvSpPr>
        <p:spPr>
          <a:xfrm>
            <a:off x="1596600" y="3291840"/>
            <a:ext cx="663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-(BOOL) respondsToSeletor:selecto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"/>
          <p:cNvSpPr/>
          <p:nvPr/>
        </p:nvSpPr>
        <p:spPr>
          <a:xfrm>
            <a:off x="1585080" y="3229560"/>
            <a:ext cx="3710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@selector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Heiti SC Light"/>
              </a:rPr>
              <a:t>指令：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"/>
          <p:cNvSpPr/>
          <p:nvPr/>
        </p:nvSpPr>
        <p:spPr>
          <a:xfrm>
            <a:off x="3202200" y="4264560"/>
            <a:ext cx="226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为某个方法生成一个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值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"/>
          <p:cNvSpPr/>
          <p:nvPr/>
        </p:nvSpPr>
        <p:spPr>
          <a:xfrm>
            <a:off x="1632240" y="5243400"/>
            <a:ext cx="10059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@selector(alloc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@selector(setTo:over: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quare instanceOfRespondToSelector:@selecor(setSide)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"/>
          <p:cNvSpPr/>
          <p:nvPr/>
        </p:nvSpPr>
        <p:spPr>
          <a:xfrm>
            <a:off x="1434960" y="1746360"/>
            <a:ext cx="930924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#import "Fraction.h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#import "Complex.h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main (intargc, const char * argv[]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{  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SAutoreleasePool * pool =   [[NSAutoreleasePool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d dataValue;Fraction *myFraction= [[Fraction 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[myFractionsetNumerator: 2 andDenominator: 5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//first dataValue gets a frac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L action = @selector (print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Value= myFraction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if( [dataValuerespondsToSelector:action] == YES 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[dataValueperformSelector:actio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[pool drai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@try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处理异常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"/>
          <p:cNvSpPr/>
          <p:nvPr/>
        </p:nvSpPr>
        <p:spPr>
          <a:xfrm>
            <a:off x="355680" y="3174840"/>
            <a:ext cx="122428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#import "Fraction.h"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main (intargc, const char * argv[]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SAutoreleasePool * pool = [[NSAutoreleasePool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action *f = [[Fraction 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[f nosuchMethod];</a:t>
            </a:r>
            <a:r>
              <a:rPr b="0" lang="en-US" sz="24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//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编译时警告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SLog(@"Execution continues!"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f release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pool drai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2120" y="1701720"/>
            <a:ext cx="6070320" cy="635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@tr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@catch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(NSException *exception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@final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"/>
          <p:cNvSpPr/>
          <p:nvPr/>
        </p:nvSpPr>
        <p:spPr>
          <a:xfrm>
            <a:off x="7543800" y="1874520"/>
            <a:ext cx="4421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可以用</a:t>
            </a:r>
            <a:r>
              <a:rPr b="0" lang="en-US" sz="3200" spc="-1" strike="noStrike">
                <a:solidFill>
                  <a:srgbClr val="ff0000"/>
                </a:solidFill>
                <a:latin typeface="Courier New Bold"/>
                <a:ea typeface="Courier New Bold"/>
              </a:rPr>
              <a:t>@thr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抛出异常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态、动态类型和动态绑定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态：来自不同类的对象可以定义共享相同名称的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动态类型：能使程序直到执行时才确定对象所属的类型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动态绑定：能使程序直到执行时才确定要对对象调用的实际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态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"/>
          <p:cNvSpPr/>
          <p:nvPr/>
        </p:nvSpPr>
        <p:spPr>
          <a:xfrm>
            <a:off x="1268280" y="3213000"/>
            <a:ext cx="104648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态：不同类名，相同方法名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：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中可以定义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eat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Bird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也可以定义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eat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动态类型：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id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120760"/>
            <a:ext cx="10464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是一个通用的对象类型，可以存储任何对象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声明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时不要星号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*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461960" y="1657440"/>
            <a:ext cx="10083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问：如果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id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型可以存储任何类型的对象，那么系统如何知道该调用哪一个方法呢？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答：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系统先判断对象所属于的类，并因此确定运行时（而不是编译时）需要动态调用的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不要养成滥用这种数据类型的习惯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235240"/>
            <a:ext cx="1046484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静态类型能更好地在程序编译阶段（而不是在运行时）指出错误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程序可读性不好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2695320" y="5456880"/>
            <a:ext cx="3086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halkboard"/>
                <a:ea typeface="Chalkboard"/>
              </a:rPr>
              <a:t>id f1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halkboard"/>
                <a:ea typeface="Heiti SC Light"/>
              </a:rPr>
              <a:t>Fracrtion </a:t>
            </a:r>
            <a:r>
              <a:rPr b="0" lang="zh-CN" sz="3600" spc="-1" strike="noStrike">
                <a:solidFill>
                  <a:srgbClr val="00ffff"/>
                </a:solidFill>
                <a:latin typeface="Chalkboard"/>
                <a:ea typeface="Heiti SC Light"/>
              </a:rPr>
              <a:t>＊</a:t>
            </a:r>
            <a:r>
              <a:rPr b="0" lang="en-US" sz="3600" spc="-1" strike="noStrike">
                <a:solidFill>
                  <a:srgbClr val="00ffff"/>
                </a:solidFill>
                <a:latin typeface="Chalkboard"/>
                <a:ea typeface="Heiti SC Light"/>
              </a:rPr>
              <a:t>f1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3898800"/>
            <a:ext cx="10464840" cy="316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这个对象是矩形吗？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这个对象支持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方法吗？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这个对象是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Graphic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类或是其子类的成员吗？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2755800"/>
            <a:ext cx="1069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开始使用包含来自不同类的对象时，可能遇到一下问题：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03040" y="2209680"/>
          <a:ext cx="12661920" cy="7277400"/>
        </p:xfrm>
        <a:graphic>
          <a:graphicData uri="http://schemas.openxmlformats.org/drawingml/2006/table">
            <a:tbl>
              <a:tblPr/>
              <a:tblGrid>
                <a:gridCol w="7242120"/>
                <a:gridCol w="5419800"/>
              </a:tblGrid>
              <a:tr h="10393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95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Chalkboard"/>
                          <a:ea typeface="Heiti SC Light"/>
                        </a:rPr>
                        <a:t>问题或行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blipFill rotWithShape="0">
                      <a:blip r:embed="rId3">
                        <a:alphaModFix amt="95000"/>
                      </a:blip>
                      <a:tile tx="0" ty="0" sx="100000" sy="100000" algn="ctr"/>
                    </a:blipFill>
                  </a:tcPr>
                </a:tc>
              </a:tr>
              <a:tr h="10396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(BOOL) isKindOf: class-objec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对象是否为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-object</a:t>
                      </a: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或其父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(BOOL) isMemberOf: class-objec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对象是否为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ss-objec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(BOOL) respondsToSeletor:selecto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对象是否能响应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lector</a:t>
                      </a: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指定的方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(BOOL) instanceRespondToSeletor:selector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指定的类实例是否能响应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lector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(BOOL) isSubclassOfClass:class-objec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对象是指定类的子类吗？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(id) performSelector:selecto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应用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lector</a:t>
                      </a:r>
                      <a:r>
                        <a:rPr b="0" lang="zh-CN" sz="2500" spc="-1" strike="noStrike">
                          <a:solidFill>
                            <a:srgbClr val="ffffff"/>
                          </a:solidFill>
                          <a:latin typeface="Arial"/>
                          <a:ea typeface="Heiti SC Light"/>
                        </a:rPr>
                        <a:t>指定的方法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有关类的问题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254160" y="2343240"/>
            <a:ext cx="12750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根据类名或一个对象生成一个</a:t>
            </a:r>
            <a:r>
              <a:rPr b="0" lang="en-US" sz="36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class-objec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可以发送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消息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"/>
          <p:cNvSpPr/>
          <p:nvPr/>
        </p:nvSpPr>
        <p:spPr>
          <a:xfrm>
            <a:off x="1339560" y="3710880"/>
            <a:ext cx="462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Squa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lass];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//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通过类名声明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mySqua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lass];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//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Heiti SC Medium"/>
              </a:rPr>
              <a:t>通过对象名声明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2583720" y="4918680"/>
            <a:ext cx="1093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判定两个对象是否在一个类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"/>
          <p:cNvSpPr/>
          <p:nvPr/>
        </p:nvSpPr>
        <p:spPr>
          <a:xfrm>
            <a:off x="2394000" y="5620680"/>
            <a:ext cx="585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([obj1 class] == [obj2 class]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/>
          <p:nvPr/>
        </p:nvSpPr>
        <p:spPr>
          <a:xfrm>
            <a:off x="476640" y="6380280"/>
            <a:ext cx="8642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-(id)PerformSelector:selecto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"/>
          <p:cNvSpPr/>
          <p:nvPr/>
        </p:nvSpPr>
        <p:spPr>
          <a:xfrm>
            <a:off x="2355480" y="7086600"/>
            <a:ext cx="7133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 action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d graphicObject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on = @selector (draw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graphicObjectperformSelector: actio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